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935-3EC1-439E-BC41-1817E0FDE9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BA5-9AE3-41FD-A1F3-E2A069C38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AC7B-A8DF-4B43-A2F2-D9E67EC6F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9A8-E8A0-470F-A49F-95DA83C59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548-2C1A-49BD-B07E-AF2C4EFC7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AF49-0024-4962-8B33-24470FCA2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8D3-5659-446F-9BB5-8550EE860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759-E1B4-4968-8FA4-A3D90484A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11F5-2B29-40ED-A59D-79E102512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74F-B871-4E8C-BE97-ED57E8938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FA9-2390-4EF7-92BA-EFA5D250A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E77-368C-472A-B00E-ADA287966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B37-DEB2-469C-AACA-03C400CA7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B007-6EF1-46C4-9F1D-8CE93B76B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2B76-5801-4788-9ED8-C9EC762C2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0DB2-308F-483B-91BC-3932EFB79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914C-1569-4A36-9BF4-B660724C0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487-FBAC-4006-BAAB-B2A3983F4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46C-0062-4EDC-A618-527E59B3A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7532-C187-4539-9935-EFEA2A08C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7B65-AB24-443C-8813-98D579CBF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DD24-376C-4E9B-BE16-EA9F4817D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3E0-2BC3-4917-A067-1E7440A1E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41F-4B43-4A49-87DB-458FE9C27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E66-477B-45DD-A828-981C6FACE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88A-C1FD-469C-8CFA-7510CBF8E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AE8-5D0B-4AD6-9958-C9BABC339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BBF-C3C8-45E2-AC26-6B15B34F0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CF9B-24D8-42F9-BAA8-67A0F65B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5CD-EDBF-4449-B5A4-BE2AAA093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40A-88AC-4B77-889D-C0453D58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235-5D31-4B31-B3BC-DA59CA25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018-2CF9-45FC-92D2-8A87E137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B7A-4B5D-4A99-AB18-E5C39CB4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1A1-6068-40A3-88C3-EC2EA90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F9E-9E1B-48AA-865D-8E9853A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82E-D525-4701-AB30-0CE86A07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F66-881E-4CCD-B08A-5781AC8A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46D-229C-4A2D-A5BA-F94CC353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A43-F060-43C6-9FBD-670ED07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B9A-907D-47C7-BB52-0FE4E5B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24F-A85A-4B78-84D0-C99E4BCE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4A28-F985-4E80-9C5B-41AEDB302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230-859C-4F30-96E9-69A3C166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The total number of individuals that an environment can support is call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densit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exponent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 level-of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An example of commensalism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ants on a tree-the ants get food and the tree gets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Tapeworm feeding off of a h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 Barnacles on a whale-the barnacles get food and the whale does not even know they ar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. A bird on the back of a bongo-the birds gets insects to eat and the bongo gets clea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a urchin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a Otter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Killer wh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population of killer whales increases, what happens to the population of sea ot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344664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56272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ea otter population 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to the population of sea otters if the population of killer whale decre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282888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3592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of sea otters in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to the population of sea urchins if the population of sea otters incre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200400" y="370692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of sea urchins 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happen to the population of killer whales if the population of sea urchins decre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743200" cy="211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954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of killer whales will decr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you can see, the population is strongly connected to the food chains within an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993760" cy="233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44766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834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sitism and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sitic organisms range in size from microscopic, disease-cau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bacteri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apeworm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 cm or more in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sites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ourish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t the expense of thei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ften weakening them and causing disease or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660920" cy="315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976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nsity-In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nsity-independent factors-aff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pulations in similar way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gardles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popula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Unusual 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ason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uman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nsity-In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response to these factors, many species show a characterist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ras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 population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fter the crash, the population may soon build up again, or it may st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ow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or so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32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y/Rabbit Population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ing factors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2640" indent="-242640">
              <a:spcBef>
                <a:spcPts val="8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Calibri"/>
              </a:rPr>
              <a:t>Article 2 Due Wednesday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 where both species benefit-pollinators and flow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ype of succession starts from scratch, it is caused by volcanoes and glac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logical and physical condition in which an organism fits into an environment and the way in which they use resources is called the organism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iome has permanent frozen soil called permaf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iome has deciduous trees, like oak and maple-it’s also where we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s to Population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uided Notes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e 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514600" cy="294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962520" cy="412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880080" cy="290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1066680" y="5257800"/>
            <a:ext cx="42674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imiting factor-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actor that causes population growth to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ing factors can be densit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-depend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ensit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-in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miting factor that depend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alled density-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-dependent factors become limi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the popul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ns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he number of individuals per unit area) reaches a certai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factors operate most strongly when a populatio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asi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populations become mo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rowd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rganis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pet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th one another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oo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pa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unligh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other ess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etition among the same species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traspe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etition among different species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terspe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: Puffins must compete for limited nesting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ff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2764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egulation of a population by predation takes place with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redator-pre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predator prey-relationships can be depict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the population of the predator increases, the population of the pr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creas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the population of the predator decreases, the population of the pr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creas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gela Gorney</cp:lastModifiedBy>
  <dcterms:modified xsi:type="dcterms:W3CDTF">2011-02-05T22:14:47Z</dcterms:modified>
  <cp:revision>3</cp:revision>
  <dc:subject/>
  <dc:title>Warm-Up / EOC Prep</dc:title>
</cp:coreProperties>
</file>